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37A-A560-4E0F-9EF8-97BE714D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3D7-90CF-4CA4-9969-23FCB961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1E4-9694-414E-8D70-876CF7BE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63F-DD5D-42C5-BAA1-84A922C8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4C8-86A7-4818-94A1-708DA838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058-BCAE-4500-9C6B-254365F5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772-E89E-4674-B55B-FD766A4E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223-A23D-445B-A8FD-7C3DD1D7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292C-E4CE-4DF5-B09C-439AA650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76E-CF89-45AD-AFF2-15490FAB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727-6B41-45FE-903A-2D4A9492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0E8-D660-4B66-8DE4-115D3C9D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BCC7-144B-4FF5-ADC1-3A23F1CF6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4" descr="0"/>
          <p:cNvPicPr/>
          <p:nvPr/>
        </p:nvPicPr>
        <p:blipFill>
          <a:blip r:embed="rId1"/>
          <a:srcRect l="0" t="12966" r="0" b="24976"/>
          <a:stretch/>
        </p:blipFill>
        <p:spPr>
          <a:xfrm>
            <a:off x="2244600" y="2289240"/>
            <a:ext cx="1882800" cy="874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2" name="Picture 46" descr=""/>
          <p:cNvPicPr/>
          <p:nvPr/>
        </p:nvPicPr>
        <p:blipFill>
          <a:blip r:embed="rId2"/>
          <a:stretch/>
        </p:blipFill>
        <p:spPr>
          <a:xfrm>
            <a:off x="4410000" y="2289240"/>
            <a:ext cx="2408400" cy="87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icture 19" descr="8141-3D Assembly -1C"/>
          <p:cNvPicPr/>
          <p:nvPr/>
        </p:nvPicPr>
        <p:blipFill>
          <a:blip r:embed="rId3"/>
          <a:stretch/>
        </p:blipFill>
        <p:spPr>
          <a:xfrm>
            <a:off x="115920" y="2289240"/>
            <a:ext cx="1847880" cy="87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4" name="Picture 109" descr="Picture - Tool Case I"/>
          <p:cNvPicPr/>
          <p:nvPr/>
        </p:nvPicPr>
        <p:blipFill>
          <a:blip r:embed="rId4"/>
          <a:stretch/>
        </p:blipFill>
        <p:spPr>
          <a:xfrm>
            <a:off x="2860560" y="946080"/>
            <a:ext cx="132084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5" name="Picture 110" descr="0"/>
          <p:cNvPicPr/>
          <p:nvPr/>
        </p:nvPicPr>
        <p:blipFill>
          <a:blip r:embed="rId5"/>
          <a:srcRect l="0" t="12493" r="0" b="12493"/>
          <a:stretch/>
        </p:blipFill>
        <p:spPr>
          <a:xfrm>
            <a:off x="4272120" y="946080"/>
            <a:ext cx="175896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6" name="Picture 111" descr="New Image2"/>
          <p:cNvPicPr/>
          <p:nvPr/>
        </p:nvPicPr>
        <p:blipFill>
          <a:blip r:embed="rId6"/>
          <a:stretch/>
        </p:blipFill>
        <p:spPr>
          <a:xfrm>
            <a:off x="1287360" y="946080"/>
            <a:ext cx="99540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" name="Picture 112" descr="Picture - Tool in Hand I"/>
          <p:cNvPicPr/>
          <p:nvPr/>
        </p:nvPicPr>
        <p:blipFill>
          <a:blip r:embed="rId7"/>
          <a:stretch/>
        </p:blipFill>
        <p:spPr>
          <a:xfrm>
            <a:off x="2373480" y="946080"/>
            <a:ext cx="39672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8" name="Picture 113" descr="2-3 Jet Pump"/>
          <p:cNvPicPr/>
          <p:nvPr/>
        </p:nvPicPr>
        <p:blipFill>
          <a:blip r:embed="rId8"/>
          <a:stretch/>
        </p:blipFill>
        <p:spPr>
          <a:xfrm>
            <a:off x="7569360" y="946080"/>
            <a:ext cx="70956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9" name="Picture 114" descr="photo3"/>
          <p:cNvPicPr/>
          <p:nvPr/>
        </p:nvPicPr>
        <p:blipFill>
          <a:blip r:embed="rId9"/>
          <a:stretch/>
        </p:blipFill>
        <p:spPr>
          <a:xfrm>
            <a:off x="735120" y="946080"/>
            <a:ext cx="46188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0" name="Picture 115" descr="JetVak with Indexing tool"/>
          <p:cNvPicPr/>
          <p:nvPr/>
        </p:nvPicPr>
        <p:blipFill>
          <a:blip r:embed="rId10"/>
          <a:stretch/>
        </p:blipFill>
        <p:spPr>
          <a:xfrm>
            <a:off x="417600" y="946080"/>
            <a:ext cx="22860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" name="Picture 116" descr="Calgary-20110929-00023"/>
          <p:cNvPicPr/>
          <p:nvPr/>
        </p:nvPicPr>
        <p:blipFill>
          <a:blip r:embed="rId11"/>
          <a:stretch/>
        </p:blipFill>
        <p:spPr>
          <a:xfrm>
            <a:off x="6497640" y="946080"/>
            <a:ext cx="98100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2" name="Picture 117" descr="DSCN1974"/>
          <p:cNvPicPr/>
          <p:nvPr/>
        </p:nvPicPr>
        <p:blipFill>
          <a:blip r:embed="rId12"/>
          <a:stretch/>
        </p:blipFill>
        <p:spPr>
          <a:xfrm>
            <a:off x="6122880" y="946080"/>
            <a:ext cx="28728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13"/>
          <a:srcRect l="16447" t="0" r="14098" b="5474"/>
          <a:stretch/>
        </p:blipFill>
        <p:spPr>
          <a:xfrm>
            <a:off x="7034040" y="2224080"/>
            <a:ext cx="520920" cy="944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3268080" y="21420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Lift Systems’ Jet Pump Technolog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20:30:00Z</dcterms:created>
  <dc:creator>Source Rock</dc:creator>
  <dc:description/>
  <dc:language>en-US</dc:language>
  <cp:lastModifiedBy>Source Rock</cp:lastModifiedBy>
  <dcterms:modified xsi:type="dcterms:W3CDTF">2018-05-02T20:14:05Z</dcterms:modified>
  <cp:revision>5</cp:revision>
  <dc:subject/>
  <dc:title>Slide 1</dc:title>
</cp:coreProperties>
</file>